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13F608-2EA0-48F5-8274-D7175F9E1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39C82F-646D-428B-9AA7-24962C642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8B622C-B609-4FAB-98A0-B525602D2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D5C681-E1A6-4BA3-9724-A905CE33F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FF04C-0476-42FE-A39E-48B9CB983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05200-8DE7-40C1-9C8F-25E1CD062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79DFD-D382-405B-8876-5D3FA23FF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90AB9-63BA-4AFB-A788-403BB9CA3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57A25-6007-40BB-8035-FF737235C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B7487-CEA0-4FFE-BE1C-922937EF9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91830-6F26-4FAA-9E5C-2257BA10A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C747E9-8659-4246-8A90-F2D726B42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1C8E8-04D5-489B-B914-F98B10C14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3D761-244F-4126-BA5E-A9A060142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32AF7-B420-4695-9A2E-1AD780BBE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E90C6-9A91-4AA5-A262-CE26CC4BB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DC229-3157-4D06-9028-A96E19649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CF8302-1DAE-4F14-8216-175277B73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5D2450-0A33-4D72-8762-104EB8563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1E1196-B6D1-40F8-856E-8577F4355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ED378C-1AF1-4E72-BF9C-3320EF0C4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7B89BE-ECD3-481B-9F44-60D4CEA31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3C989F-DF9D-4F39-AA89-CDF52FDE0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18B7E1-9339-4AAC-A42E-E11CD94D5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87D6F-F283-46A9-968D-F039732DA39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7" name="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9D0DD-48E0-498A-96F7-B45E95481FD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63" name="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55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Sir, We Would See Jesus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2971440" y="4267080"/>
            <a:ext cx="57913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Quarter 10, Lesson 11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rk 12:18-44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pages 139-144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The Widow’s Mite</a:t>
            </a:r>
            <a:br>
              <a:rPr sz="39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rk 12:41-44; Luke 21:1-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ss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78f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value of gift is not determined by its amou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78f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importance is the spirit in which it is giv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78f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rich gave out of their abund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78f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widow gave out of her generos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78f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 should not give grudgingly or out of necess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78f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d loves a cheerful giv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5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2" dur="50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7" dur="500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2" dur="500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1739160" y="520200"/>
            <a:ext cx="6884280" cy="116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The Sadducees Question Jesus</a:t>
            </a:r>
            <a:br>
              <a:rPr sz="3500"/>
            </a:b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rk 12:18-27; Matt. 22:23-33; Luke 20:27-4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609120" y="1981080"/>
            <a:ext cx="81536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Sadducees denied there was a resurre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ses wrote about laws of marriage when death occurs to a husba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Sadducees posed a difficult situation and question to Jes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if: there were 7 brothers and the 1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took a wife and died without childr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like manner, the 6 left no children and died and last of all the woman died als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2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20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20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20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20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20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20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1739160" y="520200"/>
            <a:ext cx="6884280" cy="116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The Sadducees Question Jesus</a:t>
            </a:r>
            <a:br>
              <a:rPr sz="3500"/>
            </a:b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rk 12:18-27; Matt. 22:23-33; Luke 20:27-4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609120" y="1828440"/>
            <a:ext cx="81536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Question: In the resurrection, whose wife does she become? For all 7 had her as a wif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esus answered, ”You are mistaken, not knowing the Scriptures, nor the power of God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rriage will not be needed in heav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ses showed in the burning bush passage that the dead are rais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d is not the God of the dead but the liv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dducees silenc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r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2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2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20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20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20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20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20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20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20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20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2000" fill="hold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2000" fill="hold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A Scribe Questions Jesus</a:t>
            </a:r>
            <a:br>
              <a:rPr sz="3900"/>
            </a:b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rk 12:28-34; Matt. 22:34-4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240" y="2057400"/>
            <a:ext cx="8458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scribe or lawyer - one that is learned or skilled in the Law of Mo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scribe, tempting or trying Jesus asked, “Which is the great commandment in the Law?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esus answered: put God first in heart, soul &amp; mi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esus continued further: the second is liken unto it, you shall love thy neighbor as thy self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2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2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2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2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2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2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20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20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A Scribe Questions Jesus</a:t>
            </a:r>
            <a:br>
              <a:rPr sz="3900"/>
            </a:b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rk 12:28-34; Matt. 22:34-4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28240" y="18284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te Jesus didn’t say it was the greatest but the 1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 foremost ) great commandment and the 2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was like the 1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esus summed up the entire Law of Commandments with these 2 precep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sider: the first 4 Commandments deal with our attitude toward God; the other 6 deal with our relationships to our fellow m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Question: Did the scribe change his intention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over dir="u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Jesus Poses A Question</a:t>
            </a:r>
            <a:br>
              <a:rPr sz="39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rk 12: 35-37; Matt. 22: 41-46; Luke 20: 41-4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28600" y="1752480"/>
            <a:ext cx="86104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esus asked the Pharisees, “ What do you think of the Christ?  Whose Son is He?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esus asked a fair question but couldn’t be explained without exposing their opposition to Hi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esus quoted Psalm 110:1 where David reveals Christ to be his Lor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Pharisees denied the divinity of Chr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argument of Jesus - how could David recognize Jesus as His Lord if He was only his son                  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u"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oe To The Scribes &amp; Pharisees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rk 12:38-40; Matt. 23:1-39; Luke 20:45-4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0" y="17521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esus had answered the Pharisees, the Sadducees, and the Herodian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esus delivered a scathing condemnation to th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is disciples were present in the temple to learn about the attitude of these peop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esus exposed their hypocrisi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33480" indent="-476280">
              <a:spcBef>
                <a:spcPts val="624"/>
              </a:spcBef>
              <a:buClr>
                <a:srgbClr val="0078f0"/>
              </a:buClr>
              <a:buSzPct val="7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They do all their works to make show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933480" indent="-476280">
              <a:spcBef>
                <a:spcPts val="624"/>
              </a:spcBef>
              <a:buClr>
                <a:srgbClr val="0078f0"/>
              </a:buClr>
              <a:buSzPct val="7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They love the chief seats in the synagogues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933480" indent="-476280">
              <a:spcBef>
                <a:spcPts val="624"/>
              </a:spcBef>
              <a:buClr>
                <a:srgbClr val="0078f0"/>
              </a:buClr>
              <a:buSzPct val="7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They love to have men call them rabbi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2" dur="2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7" dur="20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2" dur="20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7" dur="20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0" dur="20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3" dur="2000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6" dur="2000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oe To The Scribes &amp; Pharisees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rk 12:38-40; Matt. 23:1-39; Luke 20:45-4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0" y="17521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esus spoke directly to the scribes and Pharise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ight times in Matthew 23 Jesus pronounced woe upon the scribes and Pharise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word woe means grief or dismay and is intended to mean great calamity is in sto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se woes are meant to show the inconsistency and hypocrisy of the scribes and Pharise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tthew 23:37-39 show that Jesus had compassion for his people even though they rejected Hi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horz"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2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2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20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20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20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20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20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20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20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20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The Widow’s Mite</a:t>
            </a:r>
            <a:br>
              <a:rPr sz="3900"/>
            </a:b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rk 12:41-44; Luke 21:1-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esus watched those who were contributing to the treasu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re were 13 chests shaped like trumpets in which religious and benevolent contributions were plac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esus saw the rich put a lot of money in the ch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 also saw the poor widow put in 2 mites (small copper coins) worth about 1 c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2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20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2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20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28T21:06:39Z</dcterms:created>
  <dc:creator>robert marshall</dc:creator>
  <dc:description/>
  <dc:language>en-US</dc:language>
  <cp:lastModifiedBy>Frank D Vines</cp:lastModifiedBy>
  <dcterms:modified xsi:type="dcterms:W3CDTF">2006-08-12T03:59:46Z</dcterms:modified>
  <cp:revision>11</cp:revision>
  <dc:subject/>
  <dc:title>Sir, We Would See Jesus</dc:title>
</cp:coreProperties>
</file>